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469-74F1-48C2-92C3-498480C2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D52-3562-4C9F-9BFE-826C9BC9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1725C-8D48-435D-88A1-3F6DAAFE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85FB1-7E4E-46E9-B0B5-57CA7ED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27B12-65C8-47F7-96FB-599EC2F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5AFCB-2AA5-4D1D-A7E4-E184BD0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34111-BC7F-4E36-9FDC-8F8ED08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FC9F1-5C56-4D77-AAFE-146E484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2426D-76E8-4CE0-966A-8E204AD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9DC15-5510-45A3-81F2-4DDDA9D9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4202E-FDD8-46E5-A501-6ED432E4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F0DF6-6933-4B52-A4BF-29655B94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4F1-430C-4F48-B6B2-F247833A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66A90-641B-4978-822B-F378A58C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027C5-227B-4625-B842-7DF38018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C8AC4-087C-4E91-AD7F-94128A9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6561E-13EF-4A5D-9E71-276440D4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060CB-C410-4EA1-8864-BF8E5D5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9026A-CD7B-492E-82A1-2FC05CB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89C67-6D8F-4B59-B144-2444010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A928C-ACA9-416E-8304-31864DB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5EA73-61A3-4797-85A4-892DFB48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94A1C-07B7-42EB-AEBE-171654FF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07F-A19E-485A-AE40-1234FCEE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150D3-27D5-4CAC-BFE2-273B91B6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5922CC-3137-4D7B-9D8E-B928BE96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D04F53-F232-4798-A9D9-C2F1848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6DE5A7-A5CF-4228-A5CC-47716B84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C6719E-54F8-4334-A666-38F65E60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B7484C-111B-48B3-9610-5083BF1E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B4AD6E-C438-452C-A72B-BE23596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3C7677-44EC-44A8-BB6B-C47E5C65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427BAA-CA4E-4B16-84B5-2601C430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EDF359-5AAB-4DF7-9D20-3E749BB7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B8BE5A-A8FB-443B-A933-D7266E72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8C4820-941E-410C-AF81-4BF86268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87F286-6F4F-452A-B935-10BBC369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AAD58-8B5A-4964-81B3-E7BD6482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5DAA2-E5F7-4AA2-B7F5-D21D6E1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02A15-F4B9-4FFB-AA75-8FCC499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85C8A-5CC5-449D-9407-A97934EA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779FD-B6C5-4AD4-B35A-18BDFA9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6D03F-CFC7-4EFE-A557-828BCC3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174A6-33D9-441E-AE67-DB75557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81246-1DE7-4988-8B17-AF8FB5B5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F8FCA-8134-4EBF-B9C1-6AE60CD5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DF9AA-FCDD-4DED-AD28-DECEB410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F59C0-5A86-4641-90C2-A98A6A6E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CC677-D95E-4495-9555-2A69966B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BD5A91-866E-4624-8007-CAE65A70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8C48A4-C7E1-48AE-987D-4CC540FD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411FC5-41E0-4251-9F93-3EC099E7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808AEA-14B8-4B5F-89E9-BFFF71D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7AED67-C2B7-43B0-B8B0-37C56732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D8FC76-418D-49D3-83D9-E8EDBB6D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F8B7DE-1A8E-4518-AB12-1272061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1DF76E-FD8E-4F01-93AE-B34B938B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5D0E24-6A14-4F74-A62D-F8CB9E1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4A93C9-9E1B-4701-B44B-2119F4E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C8D5D1-A448-41D1-AC95-14E37116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AA03F2-464C-42F7-B56B-4CD0F4D5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6BE1E-C120-49F6-9F40-6958D641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FD5C4-0BB7-4919-B31E-3A6CEA0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D98E0-91E1-4A51-B2F2-E6B67AA8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453F0-3E78-4492-A8CE-56075E09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4ED1A-E0D5-49E1-83DF-23661EC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73E78-0BB2-47FF-8EDB-53FAEBA7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BD7C9-583D-4740-87F2-2F7E63BE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04854-93FF-4DB3-9DE0-88459F4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989A8-22B3-460D-88D0-3FBBD523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8F3B9-7A9D-4AD2-A597-C6DB11F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5B125-B81D-4AD5-80B2-A55E4F07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1F931-D026-4997-A8AF-CD9D164A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88FD1-4D75-483B-93BF-D7F92AC3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FCE51-E0B2-4071-88AB-A9BDC605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ECCAF-CA22-4C51-9FE3-F8CA1C05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7873F-D333-4CA8-9A62-8BBC345E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F527A-4C83-416F-A403-24A19D86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C7D11-B0F4-42EC-BA15-AA67A730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DB75A-E002-4FDA-AB19-B0462F7E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F7CE9-E371-4DE9-9D25-B4B95F8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B927F-8640-4906-A278-60526BA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B1BF7-D606-4888-A7B9-1DF5425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DECA9-B3AA-4005-9722-243C375A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2FF87-17EE-4590-93B0-ADE6A9D7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21AD4-6130-4A2E-8553-E57849D7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C2A48-48CB-4469-85E9-42B5C2C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7A172-131F-44C5-917A-009D1422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0BC0D-C030-4050-B8A7-3FDCCF38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85E19-3E16-4C4B-81EB-13CA9BE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4220A-B618-48E4-AD8F-81DB1718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D7F52-6058-47ED-BB96-9C61E13B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ED7-D254-4EC1-83DB-976D2329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12446-D3FA-4749-A9D4-3D2FE99A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F579AA-56FC-470B-9E96-35D7B77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C85EA-B013-45C1-A56D-16F4C777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206DA-6458-4DB4-B0F2-29CFB04F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F7E77-8685-494D-B3E0-3205DC13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8B0D4-7276-4C9E-911E-F4C21C69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67D46-54AB-40FB-9E09-4B71519F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A8382-DBBC-4D21-91A2-0229580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29651-0593-45BC-8B18-3F86B051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D985C-3130-4399-8CC5-347D3A2C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9B6BD-A2ED-48C7-A8E8-1B94BC95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3ED54-1FB5-4C15-96F6-E1B7CD4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ACC93-31B4-4763-9AD4-4DFEAA4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8F250-055A-436A-A183-6B7A3474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BF6B6-D6A7-4029-A6AE-4700EFEB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1F819-B150-4AA5-8AE3-C0CB971D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C9548-47A7-4396-9A68-C272E549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8D1C0-0D01-4F2B-B3F7-83EC2036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A8062-2DFA-4916-9E6F-D1496B8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4AC43-4003-4870-8FBF-BB54356C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497D2-3C55-416D-8EEF-45955C51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B6D4C-9545-4935-AB2B-79733B2E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25AFD-562D-443B-A83D-A6EB2B6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8F393-C0B8-4035-8612-50C11F4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99A15-8AE7-4DFF-B3F8-A0AC571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7407E-EA32-4D56-AA37-ED91B8CB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6CBB9-87EF-49F6-A772-8BF01D3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29660-FF87-4BD3-B7E3-472C29B4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FCBE2-AF23-44B0-88C4-BC28BDCE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53E3F-4B4B-4967-BA48-D54508B6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E1A47-61E6-43D0-B404-65C0B4AB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8B0B8-10F4-4847-ACC3-D61CC3D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18A89-BD23-4BA5-8B05-B2A6BDF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4DA75-ED11-4541-B5CC-33653C46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E6F55-F0A1-4A2A-9BBB-6931C03F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2DBFC-2B07-493A-9FBA-A740E4F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7BDAD-849A-4BB6-9BF3-31425E9A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4D456-1682-4AFD-898F-0C049CE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2D358-0BF1-4C7F-B5D9-5D6BFAFE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C3253-BC0B-410E-9D01-862F7DF3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C98FC-BE90-49AE-9173-FD18A76A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5ABE3-B745-409B-BD1D-2EA38AF5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265DF-D288-40A7-93ED-747A69A2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E2B84-11C8-49A0-B438-FEA2A7E7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2EEB9-9E7F-4162-BD4C-716FF841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00BA0-6880-4456-B4B5-FE09C11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E870D-5009-4C34-8FCA-5E819F9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6AF3F-DF95-4F77-B597-E66BB71E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EA1A1-CB49-47DB-89DB-8DDFDC03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41E34-8671-4359-8ED7-F8AB899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9E3E2-B594-45E2-90F2-3CEF625A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B1DD1-CA05-43C6-A8BF-78174250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62740-22A4-449C-BEB2-17AC24CA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0573D-DC2A-418C-A425-544EB754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F7336-E9A8-4643-894C-A557C41C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DBD08-A769-476A-9124-83298F9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E3040-0B6B-47DC-A191-FD89EBB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B9A74-4AD6-43D8-804F-2866AB51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481-5826-4E6D-8F35-328EFB58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A806D-6C2E-4683-8C2E-14549576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F0CEB-6AA0-4B33-B20B-57FD7E9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61F3F-0227-463D-B242-9D3AE1F7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DB028-B973-460E-88DE-743EB071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634B0-82CE-4CE1-9AC5-B4D45CC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99588-B93A-4AF7-80B3-78125F8A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6FBB4-1222-4E72-83EB-11EB9CC4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2E3E8-0523-4038-B65D-186E3E9C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EB305-E201-4FE9-AA1F-B6E6C3F8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5F380-73E8-4ACD-BE76-B9E911B8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A2B-AA72-4DC4-8C32-009067C7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8A680-25A5-4FB8-AC82-65BABFD2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1CB15-FDAD-49FF-82B0-EADBA1C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9CA7A-8388-4318-928F-F6C2812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40660-DBBA-47DE-9DEF-BDDEE663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C4E0A-D665-4E6E-AAC8-D5BF7C1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A50D0-04A1-4862-9965-F375EBC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075DD-8590-4127-BB70-852E9EF7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4BA89-6707-48C7-8D3C-BF6F18DA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B83B4-67E8-4498-B120-D176B8F1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328-A7E5-4646-8BA8-C051A1B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DA5-FB0A-4728-AEE3-96186F1B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F2475-9EBC-40DA-A36B-A3217EF6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DD521-53F6-4E99-8F6D-AA679087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DB370D-9C56-4BF9-A55B-CDCCFBEE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826B3-F142-45ED-8AC8-9207B797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393FBA-AC0D-4CED-A8AF-0BE059BE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D95699-ECBC-4FD9-82BB-25380B0E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F0CFBC-3518-43C5-B114-19F7C90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10F00-ABC2-418A-9B55-0AE903F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46286D-A0D0-4EF2-A21F-9AD1700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8BC-79D0-430C-BADD-9B2CC4D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9FB93C-9BA7-4DAD-9F44-D98AAFDA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E2543-231D-47D0-860E-BC82314D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07EB08-E4D7-4C73-B3D3-6457681D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4BD29C-B9F7-4EF8-B731-9C76CAD6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4D819F-9362-4A20-A102-8B3931AB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C0DCE4-A0AF-41A6-A7A1-81D00189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B4373-62A2-4825-AFC5-52E2F74D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210FA-2C81-4E98-AE42-EC7DA4EF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A7FD3-9CEB-447C-99F7-08B1D3EC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19EBA8-CD95-4763-B938-1865A73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BA4-B8DE-4CF3-B3F9-1681A38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DE936F-48A7-479F-B8C2-E4CD343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F03F3-CC1E-4470-B6D0-9B4F5E3D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BA60A4-0D98-4626-86FB-8A9170F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9CDB93-CEEE-4D97-9173-B16F9EFA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FC39B-E8F9-4F15-9105-A06FCEDF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9A5B6-6412-49D1-805E-8CB549E0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A79D17-A2F5-4100-88D4-5B38628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891358-D9F3-4CEA-955A-C2681B49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862CCD-C091-4FD5-A947-A0ABD8D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9288AA-D091-4D74-86FC-9709BE10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49F-50B7-4773-83D1-61A5DD1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E4DCF5-4A4F-4976-8730-8C78277A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9EE0FA-C2E6-4E1B-BAF9-0B9F157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CDFD5B-92C4-44DE-8771-1CE6D8F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DB883A-132C-4029-820A-1B7A9A0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AE269-1ADF-419F-B390-67427DAB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0C50D-F5A4-4336-9047-357A8A14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959A76-E4A7-48BB-9E1E-3E73C89B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5B6AE-0C56-4D6C-BCB2-E981ED27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6C253-E8D6-4ED9-9C10-74FB2063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0120D-2793-416F-9370-49B6FE43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3BF0D-D6FB-4A1C-94F6-24B548C9F17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48FAE-F2CC-4CFF-B100-D0410951E69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A97F5-C457-4E04-865E-D0955AD1D7F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CB7DF-7000-4BCD-8F99-463420BEFDD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E5E46-F780-4D6D-BF6B-355E9EAB27E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D5448-CA9B-4F0D-ADC1-08940EE2D79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BC7DB-2421-4EBD-81A3-973D3FD1D4A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1EEE4-EF49-47A4-83F8-0628FAF0442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EBE57-6DDF-4716-B808-FE262D9BEC1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B576A-1D8C-4DDF-AEA7-F0F46F5C294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A3448-AE74-4952-B000-742FE9C4A94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3DF50-26C6-43D6-9250-A9C540E64B7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5873B-960E-42BD-97EC-1B88C17A1D7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726D3-1335-4187-98EF-1127D6B408E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49C7B-560C-4055-9A28-9033F8313EC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248BF-2CAF-4625-AF6A-CF1B6EDFECF7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A5891-E47F-4501-9704-C539574B19E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8F888-1225-4118-9A0E-1B5FCDCB3B82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9B5CF-5C05-4757-90BE-10DE55634C2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3CA3F-CCF0-4C3F-A6FD-B711B1C5894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92F07-EC8E-4AFB-A5F0-492399264C2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CD2A3-A0D8-4365-9A33-E86814CD6C3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AC0F7-6BFF-436E-BD00-D6AD41DD7B0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9ECE7-71C7-46FE-BB86-110CF84DFC7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8BE31-FD59-4CB4-AD54-130DD9AE044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BD82B-6E9C-448E-8349-76CF391ABE1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2E815-3E66-420A-9B2A-E661F4D73E1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13092-8603-43B8-89CF-915F81F690F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34E9C-1D5A-462B-BCD2-474E5582297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992AF-D3AD-4E19-BD42-7FFC378D5A3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6C4C4-1B3D-4A02-ABE6-E79F4D80F0F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55729-6410-4444-B9C7-52E7597EFEA4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55F58-5232-4FA6-85D8-B54B5403C8B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CDF2D-EE73-4891-855F-75109B69719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925DB-CB3F-4D54-9016-B5D6616CA0E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94B80-1F5E-4725-9A9A-1454331B8A9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EAA67-F6DE-4EC3-B0F5-8BFAED08D72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78365-1B8A-4A43-A893-E01A6DD4DCD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81BC8-5EBF-4113-887C-DD7CF5DE594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mcsource.com/pages/reviews.html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erlibrarian.ning.com/profiles/blog/list?user=joycevalenza" TargetMode="External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Non Fiction Collection Development</a:t>
            </a:r>
            <a:endParaRPr b="0" lang="en-US" sz="25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Deb Kitchener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Curriculum Consulta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Libraries,eLearning,Literacy - YRDSB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eeding Tips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38" name="Content Placeholder 4" descr=""/>
          <p:cNvPicPr/>
          <p:nvPr/>
        </p:nvPicPr>
        <p:blipFill>
          <a:blip r:embed="rId2"/>
          <a:stretch/>
        </p:blipFill>
        <p:spPr>
          <a:xfrm>
            <a:off x="426960" y="1932120"/>
            <a:ext cx="7699320" cy="429264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520" y="2571840"/>
            <a:ext cx="4016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at to do with weeded materials?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4015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ake art with them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isappear them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hhhh, use stealth…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42" name="Picture Placeholder 6" descr="book sculpture.jpg"/>
          <p:cNvPicPr/>
          <p:nvPr/>
        </p:nvPicPr>
        <p:blipFill>
          <a:blip r:embed="rId2"/>
          <a:srcRect l="-461" t="0" r="-461" b="0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Placeholder 7" descr="bookart.jpg"/>
          <p:cNvPicPr/>
          <p:nvPr/>
        </p:nvPicPr>
        <p:blipFill>
          <a:blip r:embed="rId3"/>
          <a:srcRect l="0" t="-16076" r="0" b="-16076"/>
          <a:stretch/>
        </p:blipFill>
        <p:spPr>
          <a:xfrm>
            <a:off x="4624560" y="2381400"/>
            <a:ext cx="2057400" cy="2039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Placeholder 8" descr="sshhh.jpg"/>
          <p:cNvPicPr/>
          <p:nvPr/>
        </p:nvPicPr>
        <p:blipFill>
          <a:blip r:embed="rId4"/>
          <a:srcRect l="0" t="-23327" r="0" b="-23327"/>
          <a:stretch/>
        </p:blipFill>
        <p:spPr>
          <a:xfrm>
            <a:off x="6802560" y="1676520"/>
            <a:ext cx="2057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fter all this work…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pSp>
        <p:nvGrpSpPr>
          <p:cNvPr id="946" name="TextBox 2"/>
          <p:cNvGrpSpPr/>
          <p:nvPr/>
        </p:nvGrpSpPr>
        <p:grpSpPr>
          <a:xfrm>
            <a:off x="1901880" y="1816200"/>
            <a:ext cx="4840200" cy="804600"/>
            <a:chOff x="1901880" y="1816200"/>
            <a:chExt cx="4840200" cy="804600"/>
          </a:xfrm>
        </p:grpSpPr>
        <p:pic>
          <p:nvPicPr>
            <p:cNvPr id="947" name="TextBox 2" descr=""/>
            <p:cNvPicPr/>
            <p:nvPr/>
          </p:nvPicPr>
          <p:blipFill>
            <a:blip r:embed="rId2"/>
            <a:stretch/>
          </p:blipFill>
          <p:spPr>
            <a:xfrm>
              <a:off x="1901880" y="1816200"/>
              <a:ext cx="48402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1981080" y="1868400"/>
              <a:ext cx="468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Rockwell"/>
                </a:rPr>
                <a:t>Need to consider individual district guide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TextBox 3"/>
          <p:cNvGrpSpPr/>
          <p:nvPr/>
        </p:nvGrpSpPr>
        <p:grpSpPr>
          <a:xfrm>
            <a:off x="2432160" y="3297240"/>
            <a:ext cx="5114880" cy="804960"/>
            <a:chOff x="2432160" y="3297240"/>
            <a:chExt cx="5114880" cy="804960"/>
          </a:xfrm>
        </p:grpSpPr>
        <p:pic>
          <p:nvPicPr>
            <p:cNvPr id="950" name="TextBox 3" descr=""/>
            <p:cNvPicPr/>
            <p:nvPr/>
          </p:nvPicPr>
          <p:blipFill>
            <a:blip r:embed="rId3"/>
            <a:stretch/>
          </p:blipFill>
          <p:spPr>
            <a:xfrm>
              <a:off x="2432160" y="3297240"/>
              <a:ext cx="51148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>
              <a:off x="2514600" y="3352680"/>
              <a:ext cx="49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Rockwell"/>
                </a:rPr>
                <a:t>Involve stakeholders whenever pos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TextBox 4"/>
          <p:cNvGrpSpPr/>
          <p:nvPr/>
        </p:nvGrpSpPr>
        <p:grpSpPr>
          <a:xfrm>
            <a:off x="3803760" y="4821120"/>
            <a:ext cx="4584600" cy="804960"/>
            <a:chOff x="3803760" y="4821120"/>
            <a:chExt cx="4584600" cy="804960"/>
          </a:xfrm>
        </p:grpSpPr>
        <p:pic>
          <p:nvPicPr>
            <p:cNvPr id="953" name="TextBox 4" descr=""/>
            <p:cNvPicPr/>
            <p:nvPr/>
          </p:nvPicPr>
          <p:blipFill>
            <a:blip r:embed="rId4"/>
            <a:stretch/>
          </p:blipFill>
          <p:spPr>
            <a:xfrm>
              <a:off x="3803760" y="4821120"/>
              <a:ext cx="45846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"/>
            <p:cNvSpPr/>
            <p:nvPr/>
          </p:nvSpPr>
          <p:spPr>
            <a:xfrm>
              <a:off x="3886200" y="48769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Rockwell"/>
                </a:rPr>
                <a:t>Need for great suppliers and great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2520" y="3123720"/>
            <a:ext cx="31086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66"/>
                </a:solidFill>
                <a:latin typeface="Rockwell"/>
              </a:rPr>
              <a:t>Be prepared...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56" name="Picture Placeholder 6" descr="readabanned.jpg"/>
          <p:cNvPicPr/>
          <p:nvPr/>
        </p:nvPicPr>
        <p:blipFill>
          <a:blip r:embed="rId2"/>
          <a:srcRect l="0" t="-16563" r="0" b="-16563"/>
          <a:stretch/>
        </p:blipFill>
        <p:spPr>
          <a:xfrm>
            <a:off x="277920" y="2365200"/>
            <a:ext cx="4240080" cy="418788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2520" y="3995280"/>
            <a:ext cx="3108600" cy="21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Understanding your school district selection guidelines will help in selection of appropriate resources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58" name="Picture Placeholder 7" descr="bannedbookdisplay.jpg"/>
          <p:cNvPicPr/>
          <p:nvPr/>
        </p:nvPicPr>
        <p:blipFill>
          <a:blip r:embed="rId3"/>
          <a:srcRect l="0" t="-16031" r="0" b="-16031"/>
          <a:stretch/>
        </p:blipFill>
        <p:spPr>
          <a:xfrm>
            <a:off x="27792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Placeholder 8" descr="challenges.jpg"/>
          <p:cNvPicPr/>
          <p:nvPr/>
        </p:nvPicPr>
        <p:blipFill>
          <a:blip r:embed="rId4"/>
          <a:srcRect l="0" t="-16010" r="0" b="-16010"/>
          <a:stretch/>
        </p:blipFill>
        <p:spPr>
          <a:xfrm>
            <a:off x="2460600" y="22860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6520" y="4424040"/>
            <a:ext cx="619128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66"/>
                </a:solidFill>
                <a:latin typeface="Rockwell"/>
              </a:rPr>
              <a:t>Budget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61" name="Picture Placeholder 4" descr="booktruck.jpg"/>
          <p:cNvPicPr/>
          <p:nvPr/>
        </p:nvPicPr>
        <p:blipFill>
          <a:blip r:embed="rId2"/>
          <a:srcRect l="-1075" t="0" r="-1075" b="0"/>
          <a:stretch/>
        </p:blipFill>
        <p:spPr>
          <a:xfrm>
            <a:off x="277920" y="228600"/>
            <a:ext cx="6378480" cy="4187880"/>
          </a:xfrm>
          <a:prstGeom prst="rect">
            <a:avLst/>
          </a:prstGeom>
          <a:ln w="0">
            <a:noFill/>
          </a:ln>
        </p:spPr>
      </p:pic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06520" y="5257440"/>
            <a:ext cx="619128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You may have to make a multi-year plan to meet your needs…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lanning &amp; Purchasing Tip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03280" y="1985760"/>
            <a:ext cx="3657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lways shop for the bes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hort term gains are not always the best buy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503280" y="4165200"/>
            <a:ext cx="3657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reate a wish lis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lways look through catalogues and look for what is new and notabl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410000" y="1985760"/>
            <a:ext cx="3657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ind good review sources to meet your need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etwork with other TL’s for information and guidanc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410000" y="4170240"/>
            <a:ext cx="3657600" cy="19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Keep in touch with vendo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void browsing box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ake time to visit warehouses for backlist selec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520" y="2571840"/>
            <a:ext cx="4016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int &amp; Online Resources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4015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iscussion Time…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70" name="Picture Placeholder 7" descr="deweytatoo.jpg"/>
          <p:cNvPicPr/>
          <p:nvPr/>
        </p:nvPicPr>
        <p:blipFill>
          <a:blip r:embed="rId2"/>
          <a:srcRect l="0" t="-16024" r="0" b="-16024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Placeholder 8" descr="ipodbook.jpg"/>
          <p:cNvPicPr/>
          <p:nvPr/>
        </p:nvPicPr>
        <p:blipFill>
          <a:blip r:embed="rId3"/>
          <a:srcRect l="0" t="-14651" r="0" b="-14651"/>
          <a:stretch/>
        </p:blipFill>
        <p:spPr>
          <a:xfrm>
            <a:off x="4624560" y="2381400"/>
            <a:ext cx="2057400" cy="2039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Placeholder 6" descr="bookburningmemeorialberlin.jpg"/>
          <p:cNvPicPr/>
          <p:nvPr/>
        </p:nvPicPr>
        <p:blipFill>
          <a:blip r:embed="rId4"/>
          <a:srcRect l="0" t="-26326" r="0" b="-26326"/>
          <a:stretch/>
        </p:blipFill>
        <p:spPr>
          <a:xfrm>
            <a:off x="6802560" y="2381400"/>
            <a:ext cx="205740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sources &amp; Interesting Read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Building a School Library Collection Plan:  A Beginning Handbook with Internet Assist. 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avid V. Loertscher, Blanch Woolls. 1999  ISBN0931510740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c5fbc"/>
                </a:solidFill>
                <a:uFillTx/>
                <a:latin typeface="Rockwell"/>
                <a:hlinkClick r:id="rId2"/>
              </a:rPr>
              <a:t>http://www.lmcsource.com/pages/reviews.html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Collection mapping files to support tex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Achieving Information Literacy.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Canadian Association for School Librari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ll images from Flickr file sharing licensed under Creative Common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  <p:pic>
        <p:nvPicPr>
          <p:cNvPr id="976" name="Picture 4" descr="3309070974_eb90364319_m.jpg"/>
          <p:cNvPicPr/>
          <p:nvPr/>
        </p:nvPicPr>
        <p:blipFill>
          <a:blip r:embed="rId3"/>
          <a:stretch/>
        </p:blipFill>
        <p:spPr>
          <a:xfrm>
            <a:off x="2508120" y="551808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ntinued…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 rot="16200000">
            <a:off x="2371680" y="-272880"/>
            <a:ext cx="3809880" cy="75564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c5fbc"/>
                </a:solidFill>
                <a:uFillTx/>
                <a:latin typeface="Rockwell"/>
                <a:hlinkClick r:id="rId2"/>
              </a:rPr>
              <a:t>http://teacherlibrarian.ning.com/profiles/blog/list?user=joycevalenza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 Joyce Valenza’s N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Toward a 21</a:t>
            </a:r>
            <a:r>
              <a:rPr b="0" lang="en-US" sz="2000" spc="-1" strike="noStrike" u="sng" baseline="30000">
                <a:solidFill>
                  <a:srgbClr val="595959"/>
                </a:solidFill>
                <a:uFillTx/>
                <a:latin typeface="Rockwell"/>
              </a:rPr>
              <a:t>st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 Century School Library Media Program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.  Esther Rosenfeld and David Loerstcher.  2007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Content Placeholder 3" descr="where to begin.jpg"/>
          <p:cNvPicPr/>
          <p:nvPr/>
        </p:nvPicPr>
        <p:blipFill>
          <a:blip r:embed="rId2"/>
          <a:srcRect l="0" t="-24094" r="0" b="-24094"/>
          <a:stretch/>
        </p:blipFill>
        <p:spPr>
          <a:xfrm>
            <a:off x="277920" y="-990720"/>
            <a:ext cx="4827600" cy="88520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5105520" y="3995280"/>
            <a:ext cx="3898800" cy="21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Where to begin??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oertscher &amp; Woolls </a:t>
            </a:r>
            <a:r>
              <a:rPr b="0" lang="en-US" sz="1600" spc="-1" strike="noStrike">
                <a:solidFill>
                  <a:srgbClr val="663366"/>
                </a:solidFill>
                <a:latin typeface="Rockwell"/>
              </a:rPr>
              <a:t>(1999)</a:t>
            </a:r>
            <a:endParaRPr b="0" lang="en-US" sz="1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600200"/>
            <a:ext cx="755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elivering: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e right inform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 the right pers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t the right tim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 the right plac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 the righ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Using the best technology delivery system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s the vision of the collection development pla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Many Considerations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7" name="Content Placeholder 6" descr=""/>
          <p:cNvPicPr/>
          <p:nvPr/>
        </p:nvPicPr>
        <p:blipFill>
          <a:blip r:embed="rId2"/>
          <a:stretch/>
        </p:blipFill>
        <p:spPr>
          <a:xfrm>
            <a:off x="426960" y="1974960"/>
            <a:ext cx="769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80880" y="2571840"/>
            <a:ext cx="3254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Know your collection….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9" name="Content Placeholder 5" descr="librarybooks.jpg"/>
          <p:cNvPicPr/>
          <p:nvPr/>
        </p:nvPicPr>
        <p:blipFill>
          <a:blip r:embed="rId2"/>
          <a:srcRect l="0" t="-13641" r="0" b="-13641"/>
          <a:stretch/>
        </p:blipFill>
        <p:spPr>
          <a:xfrm>
            <a:off x="3995640" y="457200"/>
            <a:ext cx="4770360" cy="6073920"/>
          </a:xfrm>
          <a:prstGeom prst="rect">
            <a:avLst/>
          </a:prstGeom>
          <a:ln w="0">
            <a:noFill/>
          </a:ln>
        </p:spPr>
      </p:pic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3256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Ideas from far end….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98989"/>
              </a:solidFill>
              <a:latin typeface="Rockwell"/>
            </a:endParaRPr>
          </a:p>
        </p:txBody>
      </p:sp>
      <p:pic>
        <p:nvPicPr>
          <p:cNvPr id="923" name="Picture Placeholder 6" descr="circuslibrarian.jpg"/>
          <p:cNvPicPr/>
          <p:nvPr/>
        </p:nvPicPr>
        <p:blipFill>
          <a:blip r:embed="rId2"/>
          <a:srcRect l="-20822" t="0" r="-20822" b="0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Placeholder 7" descr="rainbow books.jpg"/>
          <p:cNvPicPr/>
          <p:nvPr/>
        </p:nvPicPr>
        <p:blipFill>
          <a:blip r:embed="rId3"/>
          <a:srcRect l="0" t="-16010" r="0" b="-16010"/>
          <a:stretch/>
        </p:blipFill>
        <p:spPr>
          <a:xfrm>
            <a:off x="6802560" y="237816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856800" y="1779120"/>
            <a:ext cx="3086280" cy="204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Rockwell"/>
              </a:rPr>
              <a:t>How might you do this?</a:t>
            </a:r>
            <a:endParaRPr b="0" lang="en-US" sz="4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Need to know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urrent size of N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urrent average age o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ondition o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Quality o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new media has been added in recent year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urrent state of weed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utdated technologie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Might be: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Need to knows</a:t>
            </a: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	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ow does your collection compare to other schools, provincial or national standards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mpact of spending over time…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Cont’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You may need to weed!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33" name="Content Placeholder 6" descr="weeding.jpg"/>
          <p:cNvPicPr/>
          <p:nvPr/>
        </p:nvPicPr>
        <p:blipFill>
          <a:blip r:embed="rId2"/>
          <a:srcRect l="-12008" t="0" r="-12008" b="0"/>
          <a:stretch/>
        </p:blipFill>
        <p:spPr>
          <a:xfrm>
            <a:off x="4156200" y="1986120"/>
            <a:ext cx="3657600" cy="1965240"/>
          </a:xfrm>
          <a:prstGeom prst="rect">
            <a:avLst/>
          </a:prstGeom>
          <a:ln w="0">
            <a:noFill/>
          </a:ln>
        </p:spPr>
      </p:pic>
      <p:pic>
        <p:nvPicPr>
          <p:cNvPr id="934" name="Content Placeholder 7" descr="anotheruselessbook.jpg"/>
          <p:cNvPicPr/>
          <p:nvPr/>
        </p:nvPicPr>
        <p:blipFill>
          <a:blip r:embed="rId3"/>
          <a:srcRect l="-8882" t="0" r="-8882" b="0"/>
          <a:stretch/>
        </p:blipFill>
        <p:spPr>
          <a:xfrm>
            <a:off x="498600" y="1986120"/>
            <a:ext cx="3657600" cy="4140000"/>
          </a:xfrm>
          <a:prstGeom prst="rect">
            <a:avLst/>
          </a:prstGeom>
          <a:ln w="0">
            <a:noFill/>
          </a:ln>
        </p:spPr>
      </p:pic>
      <p:pic>
        <p:nvPicPr>
          <p:cNvPr id="935" name="Content Placeholder 8" descr="oldbook.jpg"/>
          <p:cNvPicPr/>
          <p:nvPr/>
        </p:nvPicPr>
        <p:blipFill>
          <a:blip r:embed="rId4"/>
          <a:srcRect l="-90468" t="0" r="-90468" b="0"/>
          <a:stretch/>
        </p:blipFill>
        <p:spPr>
          <a:xfrm>
            <a:off x="2819520" y="4160880"/>
            <a:ext cx="3657600" cy="1965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damaged books.jpg"/>
          <p:cNvPicPr/>
          <p:nvPr/>
        </p:nvPicPr>
        <p:blipFill>
          <a:blip r:embed="rId5"/>
          <a:stretch/>
        </p:blipFill>
        <p:spPr>
          <a:xfrm>
            <a:off x="5769000" y="42861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9:46:26Z</dcterms:created>
  <dc:creator>Admin Admin</dc:creator>
  <dc:description/>
  <dc:language>en-US</dc:language>
  <cp:lastModifiedBy>Admin Admin</cp:lastModifiedBy>
  <dcterms:modified xsi:type="dcterms:W3CDTF">2009-04-02T22:40:39Z</dcterms:modified>
  <cp:revision>4</cp:revision>
  <dc:subject/>
  <dc:title>Non Fiction Collection Development</dc:title>
</cp:coreProperties>
</file>